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B1C729-5A1A-41AA-9678-85CEA94BF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900663-FA6C-4F7D-B457-9FB6912D0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65C7A1-E6FC-4833-989F-544BFDE6CD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1B0101-570A-4D6E-87A8-299B7B6705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0D2CD-0E3C-4DA0-91E5-EC4F12D32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D4497-9D93-46F2-A6DC-06D657D60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F5C6F-44B4-4F70-BD09-6A31B1344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DFB2F-ABD0-4C02-A573-6DD416CC8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E8E16-EA9E-46D1-872C-A9D2F3D14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7B4A3-2EA8-4435-9D8C-5E770554B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86B6B-F18D-49F0-91B3-14CF5F981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70A1F7-BACA-4D48-9B17-F2D5EA5ED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C4EE8-4B5F-4216-9A63-090D6BF46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BFCF-908A-4F0A-87BA-558E32B47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EFFB6-7433-4A65-93D1-C8251F43E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2F2B2-DD8C-4778-AD49-903C77F4D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28B2D-A75B-4ECC-8287-D569D0350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2C7F5C-DF2E-4683-B228-7EAC7C0F0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356191-0847-4890-B4FB-3A448435B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222348-C0DF-495A-BFCB-68ED738B0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70C3F-D470-4E8C-80CD-2918893C0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ED0C6-CFD6-429C-B1A0-813A720C4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4BBD37-F46A-462C-8FD4-A2C9E45F3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48800A-9AF3-4913-99B5-4BEE38BB3F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B324-F8AA-4C30-A0B7-A0000C482B5F}"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5F53-DDC4-4DBF-9D62-5C327ED1EC4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ÎMBRĂCĂMINTEA ROMANILOR</a:t>
            </a:r>
            <a:endParaRPr b="0" lang="en-US" sz="1600" spc="-1" strike="noStrike">
              <a:solidFill>
                <a:srgbClr val="ffffcc"/>
              </a:solidFill>
              <a:latin typeface="Tahoma"/>
            </a:endParaRPr>
          </a:p>
        </p:txBody>
      </p:sp>
      <p:sp>
        <p:nvSpPr>
          <p:cNvPr id="126" name="PlaceHolder 2"/>
          <p:cNvSpPr>
            <a:spLocks noGrp="1"/>
          </p:cNvSpPr>
          <p:nvPr>
            <p:ph type="subTitle"/>
          </p:nvPr>
        </p:nvSpPr>
        <p:spPr>
          <a:xfrm>
            <a:off x="1371600" y="3889440"/>
            <a:ext cx="6400800" cy="6840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latină, clasa a IX-a</a:t>
            </a:r>
            <a:r>
              <a:rPr b="0" lang="ro-RO" sz="1000" spc="-1" strike="noStrike">
                <a:solidFill>
                  <a:srgbClr val="ffffff"/>
                </a:solidFill>
                <a:latin typeface="Arial"/>
              </a:rPr>
              <a:t>, Daniela Văduva, consultant principal I. Fischer)</a:t>
            </a:r>
            <a:endParaRPr b="0" lang="en-US" sz="1000" spc="-1" strike="noStrike">
              <a:solidFill>
                <a:srgbClr val="ffffff"/>
              </a:solidFill>
              <a:latin typeface="Tahoma"/>
            </a:endParaRPr>
          </a:p>
        </p:txBody>
      </p:sp>
      <p:sp>
        <p:nvSpPr>
          <p:cNvPr id="127"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ffffff"/>
              </a:solidFill>
              <a:latin typeface="Tahoma"/>
            </a:endParaRPr>
          </a:p>
        </p:txBody>
      </p:sp>
      <p:sp>
        <p:nvSpPr>
          <p:cNvPr id="129"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30" name="" descr=""/>
          <p:cNvPicPr/>
          <p:nvPr/>
        </p:nvPicPr>
        <p:blipFill>
          <a:blip r:embed="rId1">
            <a:grayscl/>
          </a:blip>
          <a:stretch/>
        </p:blipFill>
        <p:spPr>
          <a:xfrm>
            <a:off x="5148360" y="1484280"/>
            <a:ext cx="143964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odurile de existenţă ale frumosului.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1.</a:t>
            </a:r>
            <a:r>
              <a:rPr b="0" lang="ro-RO" sz="1200" spc="-1" strike="noStrike">
                <a:solidFill>
                  <a:srgbClr val="ffffff"/>
                </a:solidFill>
                <a:latin typeface="Arial"/>
              </a:rPr>
              <a:t>	</a:t>
            </a:r>
            <a:r>
              <a:rPr b="0" lang="ro-RO" sz="1200" spc="-1" strike="noStrike">
                <a:solidFill>
                  <a:srgbClr val="ffffff"/>
                </a:solidFill>
                <a:latin typeface="Arial"/>
              </a:rPr>
              <a:t>Conjugaţi la toate modurile şi timpurile din tema de perfect, verbele de mai jos: </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xcludo, -ere, -s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stendo, -ere, -nd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do, -are, -avi, -atum.</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ecunoaşteţi următoarele forme verbale şi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enavisse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upivi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luera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gnoverimus;</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eneru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alutaveritis.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mpletaţi propoziţiile următoare punând verbele la indicativ perfect.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aesar post pugnam Roma</a:t>
            </a:r>
            <a:r>
              <a:rPr b="0" lang="en-US" sz="1200" spc="-1" strike="noStrike">
                <a:solidFill>
                  <a:srgbClr val="ffffff"/>
                </a:solidFill>
                <a:latin typeface="Arial"/>
              </a:rPr>
              <a:t>m</a:t>
            </a:r>
            <a:r>
              <a:rPr b="0" lang="ro-RO" sz="1200" spc="-1" strike="noStrike">
                <a:solidFill>
                  <a:srgbClr val="ffffff"/>
                </a:solidFill>
                <a:latin typeface="Arial"/>
              </a:rPr>
              <a:t> veni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laudius ab adulescentia in villa habita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omani longo bello Gallos vincere.</a:t>
            </a:r>
            <a:endParaRPr b="0" lang="en-US" sz="1200" spc="-1" strike="noStrike">
              <a:solidFill>
                <a:srgbClr val="ffffff"/>
              </a:solidFill>
              <a:latin typeface="Tahoma"/>
            </a:endParaRPr>
          </a:p>
        </p:txBody>
      </p:sp>
      <p:sp>
        <p:nvSpPr>
          <p:cNvPr id="132"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b2</cp:lastModifiedBy>
  <dcterms:modified xsi:type="dcterms:W3CDTF">2012-06-19T10:58:09Z</dcterms:modified>
  <cp:revision>43</cp:revision>
  <dc:subject/>
  <dc:title>SALARIUL</dc:title>
</cp:coreProperties>
</file>